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55F7-D402-4A64-BBD4-A7821CF5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DA82-CB77-4F84-AC41-CF17574D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34F28-64B0-4A63-B85C-85048D4B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5D499-0BF6-4E28-B382-DE2799EF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063AB-309B-498F-BAB4-6B80A99B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7AEE8-18EA-46F6-BD0A-C26BA584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B9256-4A19-4A7A-8800-ED2D7F00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7282C-D027-4586-86B7-BE82AC11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6A2EB-3401-4DDF-B3DB-184DC168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4EED3-891C-4EA3-BE10-6D8D1A2F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CA792-6EED-4638-B95C-F6AC8F080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A146B-70B0-4B19-B785-C71AED6BD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8819-04B9-4E5C-8641-0AECABF4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67895-04B9-4C76-BEFB-BF5E5B2B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531AF-B39D-4A9C-8733-CD496F1D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E2D65-D4A0-4D63-B4BB-AC7D1BCB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FB483-3868-47B9-AE89-EBB11DFA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C99A2-26F7-49B9-AEF1-09C956FD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27466-F8AC-4B8D-84E3-24CF7104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66309-C89E-4876-B105-98132023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BD06E-2C81-4E74-8056-7A2B2E90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D38AB-8904-461B-B15F-AE5FB56A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DCACA-AA3C-42E2-ADD5-C44B03F4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E311-2556-47E4-B629-0122882E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0AE14-F269-42CC-B3E7-B772F7A4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20684-048B-4D68-9570-4B27B1CF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059F1-4BDA-49EB-A679-B0945F94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1873B-CCF2-417E-A9D2-3D576E1B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3E908-D3FB-4A14-B03E-884F3142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A4B47-338F-4490-84B3-7AE9B179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EC095-723D-4385-999D-42E5254F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C59BE-0099-4D0F-B5FF-4180B048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CD6AA-0974-460A-8335-CED72FEA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FF1C0-9F07-4DA1-9BCF-1BD4165E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302F5-AE19-4254-8095-0C449E8D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541FE-DAE9-425A-8E2B-428D85986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FA283-D815-412B-A9FA-070B89B8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2E969F-915D-415A-AD52-33AEA32CD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43D1A-610C-4CEB-86DC-FB96BEC1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48C4E-459D-4D90-A6A8-7B0BAC7D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97F420-E6C9-4238-8905-8F3768B3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87490-F4BD-49ED-BE2F-A550F11E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17FB5-A6F6-4176-8CB0-D6E2555B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DA2EF-D1C2-4CA7-A9F2-C1C8CF70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BD746-3931-4CED-84DC-2060473C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509102-CCAD-4757-B5CD-0584B321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CF4FB-360A-46D3-9990-B6CF5198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1149F7-B967-4F89-B6A8-5E0CD819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49531-1594-4C25-8AD6-F15F91161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B51F5-EA25-4637-93A7-197FCE308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32D8A-2AB3-4236-B735-F8DCED31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FF20C-24A9-4907-8B61-57FE90E3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5B141-732B-407C-A4D7-98B7F559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1E888-5640-4A04-9FC1-E96977F4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517FF-74A6-4C14-B9F4-62052139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4120A-433B-4F7C-98D3-188D0DCA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4B2DE-9825-47A4-8A9D-240CEE76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095B4-44BB-4115-8E3F-CF1741A1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B3CB2-CBF7-420B-80AD-A7E928A9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6F27E-C8F2-4D95-B4D7-BC01546F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DCF03-B4D4-4AE3-9E95-3AD071A49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438A3-9129-4A0E-A34B-B5A946731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55641-11B8-4843-B4BF-60981C6F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3A909-3788-40B6-945A-E61F3710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58E19-F7D6-4E20-9529-8FFF11BD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78C30B-8002-4917-8AD9-01DEB45A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E7767D-7F19-415D-98B8-3B16AA1A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7DF7A1-BCE6-4BE8-A180-E6E2B790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4E3E56-CFB5-4BB0-AA0F-828B5451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6A9E2-043F-42C8-B983-1F3AE77A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73A31-B628-40D2-8D9B-0FBE3C21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59D67-4AD5-4181-8845-CFE20DE75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95112F-A033-43E7-B21C-849C296A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C9F313-62EC-4E4C-9B06-3BB19613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C81D2F-C44B-4BC8-8A71-D0A1FECF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22B176-2C07-47D1-A546-4A64639E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88BD94-4F63-4861-B9E0-7C90D039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E1A235-E4BC-4BED-A9EA-FC1ABD90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36B549-2EB5-435B-846D-0215B86C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5DC57D-7917-4FA9-B9CF-94487170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516143-3388-4404-96B6-9639A420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7568B5-2CA2-46E6-9B5F-FAF90DBA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8DBD22-812E-41A7-BBB2-0890B128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57E39F-7278-4B80-9D4C-69044B71B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3DE60B-9179-4716-A61B-D0D2D3BD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B4A298-37E7-4632-99D3-9AA037465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6B0164-C0E8-440B-8E8C-0AED0329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269B62-372A-407E-89FB-067F49FB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6F5868-6326-45C3-96AF-78634BA5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49DF35-F590-4810-87EF-D4AA3198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405685-2FB3-432A-B290-5D12897E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214AA8-5102-48FC-8670-1FDDACC3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A2ACE9-7B25-423B-88F8-6D55DF25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0AF401-3C49-4928-A2E6-49242C38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6CCA9F-A338-40D4-AD6F-B6673175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838D47-46E5-4461-9283-6D843912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1C9578-6BCF-4F65-B2C7-36874804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8265B7-7993-4735-B103-FE1936927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B871A3-DDB4-4C49-8208-D96D6617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45C312-8BFE-4F95-A4B5-03E190F4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C01019-222D-43DD-B611-7820B0FC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7F854A-3C96-4C1B-89E3-D03186E3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D3C06F-B015-4D35-9A10-1292D90D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B19EAE-9434-4CA4-8EEC-9F2A9A86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62B0-B0E5-4760-8639-ED0090FB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A343AA-2242-4940-8003-6652003D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AF1747-D3E6-40C3-8601-5767BDB4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277C99-81F4-4897-817B-BD5DFBFC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C5512F-3635-431B-B25A-D9249BCC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4C04FB-81B6-4B6E-87E2-D13D40676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940AC4-2ADC-42C3-AFA1-AE745086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30524F-E269-4668-95AB-22542AE2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1FA687-DFED-422E-B0FC-55A462C9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DD04BD-80B6-4371-88E6-8D0CBD21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13A769-0135-4CD1-A073-BA2F9257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87694A-CF8B-4E32-AC21-83E6AFB6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835BFA-4744-4128-9AA6-FC8448B1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5BC483-D899-4BF9-A55D-FB8154BC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E195DF-219A-49CD-9E3C-5A0FF77D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D2399B-7010-4564-BB2F-F2023E4E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CFDAA1-84B6-4F6A-B224-C4A60F011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4488B9-BE44-43B3-B6D8-2F247D5BB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8582FC-8DBA-4A87-B30C-505ED130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A27218-EE78-412C-8992-B2791ED6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4B2BBE-2B69-432D-9048-E8B78C37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57367E-AA4E-44B5-941D-8463F95E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992FDF-F3E9-404A-A263-90C34C86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BC3CC3-2DF2-4093-A34C-20D36C69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770713-C571-4635-BBC4-120068F4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C586AE-A009-4629-A775-676C3B3A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6C0F72-82A6-4818-A1F7-1D554ACF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99BDD3-88CB-4491-A38D-36ABF683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6150C5-DAF7-402C-98B0-0B9B78FB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418015-39DB-41E0-A8C5-FDDCCD282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18C954-C664-4C67-8C38-810B6C01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AC1742-3F3E-4D84-813E-DE305E7E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CF54B9-D891-4093-8A5D-AD69A8A5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914F64-D679-4ED8-993E-4B8B308A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582D4F-A123-4471-B5F7-DF04038D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335A08-E782-4089-AAAA-A360B046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E29A89-B2BA-4003-8AC5-0A4087CA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221E00-9195-4FB7-898E-E525DD40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76B460-75A8-4416-B407-89BA4981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078A09-FA8C-4F2B-9706-10C44265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ED3EAE-978F-4B67-9699-FF98997C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27D837-825F-4451-868E-27F14D68B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E889B3-3C63-41E4-9848-F2218BFD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3ED430-F42A-4284-B54E-6EA31ABC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773C38-BF8E-4362-BA5C-401BE1E0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68FCF9-60C7-4DEE-B490-04D58532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6F9D6B-DE12-4A13-AB76-3AF03DFD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037376-CFB1-4CEF-AB7B-B5678168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0BB433-92AB-4CA6-90D4-396E2CE1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17902C-C266-4971-B884-D1C6DB2B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07C394-00C9-4311-9669-063EF5F0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7683BB-40F0-43F8-90AB-4897D62A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EC3BA3-9548-4758-A7F7-4E4C791ED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D13704-90C8-4623-8BFE-9F7DE601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611165-689A-4BF7-AA2E-B126FF62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6988F5-C8BF-4200-9D17-5B6D33AB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A229E1-0D97-4A12-988F-4289B9BA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CE4C8B-089C-4C54-89A8-CFEF8EEC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013710-89D1-4D1A-B58C-4E03ED30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CBF789-4EA9-48EF-B3F7-476D5308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DDB94B-E6C8-49C8-88BE-8DA9D7D3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2CE234-FBC9-466B-BD6C-A87CDF61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8D4DFF-E53F-4ED1-9BBD-63ADB3DA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35FA99-DABE-4E6A-9611-FFDE6CE8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B28F1D-2FEB-4E1A-81D7-7CD333EC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1BF79C-F9FB-42BD-BFF5-053FF555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307E0B-6094-462E-8447-8234B67E6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EE4B44-B8ED-44C6-B756-68308F48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EE19D5-57BA-4D99-A909-6E5DB322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B7E898-E6E1-4867-A6D4-DF4CFA2E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AA5B4C-8A22-43F7-B90B-BC83659A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CE37E6-83CD-4389-81A7-40BEE99D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18744B-B203-4FB4-88B6-3334DAEA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0BABC9-DEA2-429F-ABC8-5760CEDC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D12BB7-374F-4BCF-B6D1-82EFA138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BD3EF0-936D-4C17-9DEF-73AE71FC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929680-1EE3-41E8-8F1D-29163156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B146C7-B2EC-489D-A59F-E8CCC3645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E6C980-8A2F-42C9-A773-97163172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928827-181C-4202-A392-985AB199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E11EDA-72CF-4D56-9D5A-CC2527E0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E2201E-65C7-4CA1-AA28-C66C1ED0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F1D36D-2C22-4263-B2DF-5ED30FA1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508D5B-DECC-4280-98BE-8400979B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D989CB-AF36-4BED-8453-9622AEC4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047E35-D24B-46C5-9085-85AE9B21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49DC90-C936-49A9-8011-9CE6FF61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19BED2-40C5-49B5-9F04-80802C0F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E7F4B1-2481-46EA-BAE2-1D99534F1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48055C-64C0-443B-AD0E-F756C0F7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1E8D-3F6D-4AF0-A7EC-F73A7723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EE09-1202-4335-853A-5C7545B6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CBE5-0EA6-4632-B2E5-F58253B9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AF57-D894-4748-B4D2-EEB61AFE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7B13-A594-4658-80A7-70A91D89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CE18-07BA-4A59-A582-62651C60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1285-942C-4611-B6C5-704BDDC9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83DE-3722-4B8E-9EDE-614A8478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64D2-AC69-4D4E-80D5-62AB1968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1B9E-93AC-4336-8C4C-5E7D331B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426F-AD1E-4BB2-BCD3-360C7B65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FFD9-6FC9-408A-9AC3-89A5114B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C215-D171-4442-BCD2-B57EAEF20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F875-FFA4-4A5D-95B7-A09B7BB2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7A919-16D7-49D5-82CD-D7A069FA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CBE5-23C4-4E2C-A935-D702E350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C80AF-EA08-427A-A720-BCF04C7C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D417C-CA35-49EA-978A-904B2554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1DDAE-1A1E-48B5-B391-7EC6B5DD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D4182-BC13-4E59-8A39-36407F16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69602-6139-4287-9F6C-29894E4F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3C25D-F54A-40A5-BE40-36938B79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D5545-1A55-430F-A863-C75D1904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E8B50-84A4-4A53-9D30-2BF0FBB9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1D0B7-6674-425E-B040-8047E24D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E322A-6FE9-43C4-88DB-5CF58ED6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F923-2B00-481C-B445-A57E5F0C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2DF37-AF32-4FA4-9777-94613EFBD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80AF2-1DE6-4C56-8450-507528A74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F586C-E10A-4968-AC93-F1C09B68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B27A5-B376-401A-BEEA-BD4755A3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CEE3B-C9D8-400C-90E5-3CF77357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F3DE6-5F62-4741-91B3-92AE19A0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7A01C-028B-449F-B977-90907D75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C65BA-FE5E-4333-BF5C-2B77D712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95AC1-6EFB-4748-A283-6C08F402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4D817-1427-492B-8F67-5843879E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152B-6784-4203-8C51-0E20488B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B864B-C137-4BC8-AB93-8490B54D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FFFA4-4DBB-484D-9BC8-19CA7BEB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B3367-5817-49AC-A8CB-C64C7144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C72D6-5193-4E20-9D1A-136624A50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306E5-8FFD-49B1-AC5B-A999F629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85ACE-B6FB-4819-B83F-27DBC9ED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B020F-738F-4907-88A9-E8E692EF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22215-BC1A-4629-9F83-B7BE164C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950D2-0ABA-47D5-95D9-E4CC75F2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56802-1105-4354-B2EB-634E8E86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6970-AC9C-4659-B1BD-15F4A9DC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8E476-A2D0-41BB-9837-3DB206F4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D31C7-DB5F-4BC8-975D-3E4DB0EC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A4756-A3DA-4E29-A072-AA58F8BB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B42B5-B0D4-42BD-8648-E08413BA5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EA7DA-263F-4B39-BE09-BF60CEF8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3BF35-69CB-4D98-95A7-0EEB0320A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84CA9-7BA8-49C4-8168-3CA295C1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75ADD-4212-43A4-A7D2-7F358FF7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731F4-0309-41A1-9C74-7CB30106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2EC7C-F31F-4F50-B54C-290827F0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79CD-E13D-4F4E-890F-F9F0DB02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D3FA3-4F57-4BB8-9958-D0BBCB1E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74732-AE80-4196-802F-09442C06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2ED43-C915-48B1-ADED-3AAD98C5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22A77-67F4-4AFE-99CE-D7A8B615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351EA-A7CC-40CC-82D2-0AD188A6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315BD-3456-49C1-B57A-C5946266F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15C8D-7177-43DE-B97C-339D9BD3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9A8F8-80B1-4219-9ACC-42BEE3CE3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CCE2F-7D7E-43E9-8E42-5506ACB9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4140D-2510-40BE-8D7B-D749F41B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C6C3-AA28-4016-9AD9-0A07037DFD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548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9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50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551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2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3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4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5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6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7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8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9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56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dt" idx="2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sldNum" idx="2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FD60-2C26-48D8-A35E-8EAE2406D9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608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9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0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611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2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3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4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5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6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7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8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9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2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dt" idx="25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2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E7A6-D861-460C-8D5E-A24DAC3BD5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668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9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70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671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2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3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4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5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6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7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8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9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dt" idx="2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sldNum" idx="3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B4DA-E257-4BF4-B931-3B7714BD87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728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9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30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731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2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3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4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5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6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7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8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9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74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dt" idx="3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sldNum" idx="3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ADE1-A033-4E93-B62D-48D6BE7C95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788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9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90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791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2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3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4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5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6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7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8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9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0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dt" idx="3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ftr" idx="3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sldNum" idx="3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2980-14A3-40AF-884B-39540D19AF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848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9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50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851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2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3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4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5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6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7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8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9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60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61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62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3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64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65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6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7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8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9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70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871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2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3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74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875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6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7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8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9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80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881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2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3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4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5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6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87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888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9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0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1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92" name="PlaceHolder 1"/>
          <p:cNvSpPr>
            <a:spLocks noGrp="1"/>
          </p:cNvSpPr>
          <p:nvPr>
            <p:ph type="dt" idx="3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ftr" idx="3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sldNum" idx="3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D16D-CB24-4D24-98A9-62C642EAC8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1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932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3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34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935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6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7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8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9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0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1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2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3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94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4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4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4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4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5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5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5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95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6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6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7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7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dt" idx="4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ftr" idx="4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sldNum" idx="4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0B53-F437-40C2-AF53-F54240FEDD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016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7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018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019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0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1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2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3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4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5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6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7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028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29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30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1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32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33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4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5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6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7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38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39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0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1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42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43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4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5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6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7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48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49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0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1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2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3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4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55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056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7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8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9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60" name="PlaceHolder 1"/>
          <p:cNvSpPr>
            <a:spLocks noGrp="1"/>
          </p:cNvSpPr>
          <p:nvPr>
            <p:ph type="dt" idx="4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ftr" idx="4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 type="sldNum" idx="4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59BA-9002-468C-9938-D0FCA50ACC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9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100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1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02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103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4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5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6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7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8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9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0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1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112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13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14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5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16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17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8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9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0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1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22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23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4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5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26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27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8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9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0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1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32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33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4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5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6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7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8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39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40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1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2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3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44" name="PlaceHolder 1"/>
          <p:cNvSpPr>
            <a:spLocks noGrp="1"/>
          </p:cNvSpPr>
          <p:nvPr>
            <p:ph type="dt" idx="4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ftr" idx="4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 type="sldNum" idx="4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7D8F-9C22-4394-AC38-3A51AFF16B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3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184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5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86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187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8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9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0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1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2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3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4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5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196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97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98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9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00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201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2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3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4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5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06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207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8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9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10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211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2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3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4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5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16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17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8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9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0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1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2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23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24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5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6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7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dt" idx="4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ftr" idx="5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sldNum" idx="5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E076-CB16-4002-8B7F-A8D147F706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55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7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58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7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268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9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70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271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2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3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4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5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6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7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8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9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80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81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282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3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84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285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6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7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8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9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90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291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2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3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94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295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6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7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8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9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00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301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2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3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4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5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6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07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308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9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0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1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12" name="PlaceHolder 1"/>
          <p:cNvSpPr>
            <a:spLocks noGrp="1"/>
          </p:cNvSpPr>
          <p:nvPr>
            <p:ph type="dt" idx="5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ftr" idx="5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sldNum" idx="5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C06F-CE92-484D-8150-6131EB870F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1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352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3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54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355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6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7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8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9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0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1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2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3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6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6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36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6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36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7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37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7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37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8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38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9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39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96" name="PlaceHolder 1"/>
          <p:cNvSpPr>
            <a:spLocks noGrp="1"/>
          </p:cNvSpPr>
          <p:nvPr>
            <p:ph type="dt" idx="55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ftr" idx="5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sldNum" idx="5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C195-2BCF-4DCB-A82B-D4B21FDEC6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436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7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438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439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0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1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2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3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4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5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6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7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448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49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450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1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52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453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4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5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6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7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58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459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0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1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62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463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4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5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6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7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68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469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0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1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2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3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4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75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476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7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8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9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80" name="PlaceHolder 1"/>
          <p:cNvSpPr>
            <a:spLocks noGrp="1"/>
          </p:cNvSpPr>
          <p:nvPr>
            <p:ph type="dt" idx="5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ftr" idx="5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 type="sldNum" idx="6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854B-2E72-4295-A024-C2A9283BD5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9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520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1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522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523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4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5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6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7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8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9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0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1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32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33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534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5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36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537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8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9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0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1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42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543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4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5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46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547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8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9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0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1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52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553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4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5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6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7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8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59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560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1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2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3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64" name="PlaceHolder 1"/>
          <p:cNvSpPr>
            <a:spLocks noGrp="1"/>
          </p:cNvSpPr>
          <p:nvPr>
            <p:ph type="dt" idx="6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ftr" idx="6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 type="sldNum" idx="6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99ED-314B-4346-931F-22DDA14CE5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3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604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5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606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607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08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09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10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11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12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13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14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15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616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17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618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9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20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621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2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3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4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5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26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627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8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9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30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631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2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3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4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5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36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637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8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9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0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1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2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43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644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5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6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7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48" name="PlaceHolder 1"/>
          <p:cNvSpPr>
            <a:spLocks noGrp="1"/>
          </p:cNvSpPr>
          <p:nvPr>
            <p:ph type="dt" idx="6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ftr" idx="6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 type="sldNum" idx="6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2EAB-6AC5-4D72-B049-EB18F202B2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12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4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15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2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2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3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3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4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5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93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96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99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200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2696-9F7A-48D1-B6DC-BAF0FAC63C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248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50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251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6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8CF8-28AA-4F4B-AC2F-7AC0182DDB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308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9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10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311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2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B6C6-1EAF-4DC8-9ECF-7AC40E0124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368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9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70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371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8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B3EA-3CE3-4B9A-BFBE-9F9DB42959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28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9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30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31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3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6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7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4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0C99-DDBB-49B7-B6BB-3B6A4D1003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88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9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90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91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2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3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4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5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6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7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50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403E-23AD-4B30-8512-32A02B841D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Hyphens, Dashes, Brackets </a:t>
            </a:r>
            <a:br>
              <a:rPr sz="4800"/>
            </a:b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&amp; Parenthese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h. 15 Holt Handbo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ash Examp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Mrs. Baum – she just left– will be one of the judges of the talent sho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ight over here – oh, excuse me, Mrs. Musschoot– you’ll find the grammar books,” said Mrs. Hlina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rin began, “The murderer is – but I don’t want to give away the ending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yphens -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le 1: Use a hyphen to divide a word at the end of a l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xamples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rs. Hlinak’s students wrote very care- ful punctuation no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rs. Hlinak expects her students to ap-ply the punctuation rules to their wri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Rule 1: Use a hyphen to divide a word at the end of a line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: Divide a word only between syllab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Incorrect: tyra-nnosaurs   Correct: tyran-nosau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: Do not divide a one-syllable wor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Incorrect: play-ed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orrect: play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: Divide an already hyphenated word at a hyph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Incorrect: great-un-cle Jam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orrect: great-uncle Ja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: Do not divide a word so that one letter stands alone.  (It gets lonely!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Incorrect: i-magined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orrect: imag-i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yphens -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le 2: Use a hyphen with compound numbers from twenty-one to ninety-nine and with fractions used as modifi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irty-five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orty-eighth s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one-third pint of mil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yphens Rule 3: Use a hyphen with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efixes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all-, ex-, great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and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self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all-st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ex-princip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great-au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elf-confid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uffixe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elect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fr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resident-el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ugar-fr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prefixes before a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proper nou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proper adje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id-Septemb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ro-Ameri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yphens -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le 4: Hyphenate a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ompound adjecti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hen it precedes the noun it modif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ell-worn bo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mall-town gir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Do not use a hyphen if one of the modifiers is an –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dver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erribly bad co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arentheses (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parentheses to enclose material that is added to a sentence, but is not considered of major importanc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The American writer Langston Hughes (1902-1967) is best known for his poet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You should try that orange juice. (It’s freshly squeezed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No, set that ladder (watch out!) over the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y great-uncle Ed (he’s Grandma’s brother) is od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rackets [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]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brackets to enclose an explanation or added information within quoted or parenthetical mater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The final speaker said, “If you don’t allow them [the umpires] to do their jobs, we might as well not play the games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The next president (he was Ulysses S. Grant [1822-1885]) continued the Reconstruction program while trying to protect the rights of former slav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ashes –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words and phrases are used parenthetically, meaning they break into the main thought of the sentence. Most of these are set off by commas or parenthe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le: Use a dash to indicate an abrupt break in thought or spee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uld be used sparingly for special emphas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7:15:40Z</dcterms:created>
  <dc:creator>Erin Hlinak</dc:creator>
  <dc:description/>
  <dc:language>en-US</dc:language>
  <cp:lastModifiedBy>Nadia Williams</cp:lastModifiedBy>
  <dcterms:modified xsi:type="dcterms:W3CDTF">2014-03-07T17:24:57Z</dcterms:modified>
  <cp:revision>5</cp:revision>
  <dc:subject/>
  <dc:title>Hyphens, Dashes, Brackets  &amp; Parenthe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owTimer">
    <vt:bool>1</vt:bool>
  </property>
</Properties>
</file>